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898-5B4F-44B9-A2C6-A2340922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66A-29D1-4805-A849-0D77BFF7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EC8-6ECF-4B3E-94BB-A72AF9E1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4C7-3425-4AD6-A305-561EB9DD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86ED-CDA0-40E9-94A6-184C6D65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BB41-05BE-4CA9-9E2A-107D1C5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D858-D424-4E81-8CFD-3C9EFF01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3F08-58D5-471D-85A9-CD9EAD1E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00CE-BBA6-4456-BF0B-C2C76D0B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ECAD-78A4-4A6B-810E-EC1D99D4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E46B-1A88-4862-8A61-A50046D7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955-F3D6-4A81-8308-B6D54B8F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113F-FF46-4DF2-B176-725A3DFD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119D-4711-4595-8C42-B0A4BA4F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0029-419E-423F-9C07-35AEEE87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4653-60F5-43E6-818B-18124BC5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C28D-D525-4804-9647-36B20F64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A7A4-B328-41EA-A857-148BAAFC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117B-EF1D-4453-A3CD-E7B9E9D7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46F3-C373-465C-BAAF-0E408B43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07AF-2AD0-47B2-A467-4FEFA6A7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06F9-6EC5-426F-ACEC-6AC5C680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FE9-5311-459A-83FF-99B31990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A563-CB29-45A0-BDA6-8E7AB840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FDEE-D799-4FF5-AF47-1FD05C31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4AF0-DD73-4F71-8B97-CF551B2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EAB4-B35D-4615-81DE-8CC41A9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8A4D-4437-424A-BE3F-2BC26A61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E85D-7BA2-49C5-9FB6-365B4E7E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9B0B-14C4-4FE9-8FF9-CB5F1BA5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C3130-0B41-4BDB-8502-3CA5E18B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0A2CC-9004-4DB6-8130-C95E8581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7FD49-D78D-475C-A321-6C862C38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995-1EC3-4B19-97C3-52EFB17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EC4E-3892-48D3-8A4E-8CAC604B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AB35-0D1C-40F8-B7B1-BEBB4678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44CBB-16E8-4CA4-ADC4-EF7E4ACB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9888-47D7-4E2A-9668-B9CB7A7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0E60B-4763-42C0-A7D3-07C66137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6FDB-27A6-449A-A236-DC7524C2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FD69-C47C-4D17-86CB-FB49C40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854DC-9C5F-46AE-9895-48615638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8631-CD1E-4A07-B56D-917DBA5D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22B15-322D-463B-AE1B-36893D17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FAD-7DA5-4405-B327-9D1925D0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68F25-4B6B-49C4-AD86-BFC785E3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70E1A-296C-43A1-A642-1681BD94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D02F-6848-4DB3-A5F7-64D127AC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EF87A-E256-43D8-94A8-B9A02C6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2F16D-C958-4EB2-94BA-DE5A003A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9F164-6C54-4921-BA0E-55BB286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39402-6AB9-4503-BEBE-EB5FC8D8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28A4-6A24-491B-856F-CE6835D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684C-A160-4440-9F4B-8F7DA055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9CB0-D00E-422A-97D8-FDA557B5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807-7725-4496-9E1A-AEE16C72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1C5D7-B06D-4DF6-8AC9-9B302246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878-8794-4E56-8294-4DD7998C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7E8-A699-4DFF-83BB-AEC7CF54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1E2-EEC6-4A76-88A6-12F99E31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1800-4E25-4FFE-86AC-863798E25ED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CF6-E7EA-4620-B487-52CEE1F0092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D598-1305-4282-BF3C-B5AE092E449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00D-227E-400D-9048-D5D703B1A6A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7858-103F-4F85-950F-7C9BEBFF03C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8d3e"/>
                </a:solidFill>
                <a:latin typeface="Verdana"/>
              </a:rPr>
              <a:t>Реактор-сепаратора для флотационной очистки сточных вод предприятий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00000" y="4581000"/>
            <a:ext cx="784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b2b2b"/>
                </a:solidFill>
                <a:latin typeface="Verdana"/>
              </a:rPr>
              <a:t>проф., д.т.н. Самыгин В.Д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b2b2b"/>
                </a:solidFill>
                <a:latin typeface="Verdana"/>
              </a:rPr>
              <a:t>директор Центра РТПМС Абрютин Д.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Условия проведения дробного факторного эксперимента на трехфазном потоке по матрице 2</a:t>
            </a:r>
            <a:r>
              <a:rPr b="1" lang="ru-RU" sz="2000" spc="-1" strike="noStrike" baseline="30000">
                <a:solidFill>
                  <a:srgbClr val="ff8d3e"/>
                </a:solidFill>
                <a:latin typeface="Verdana"/>
              </a:rPr>
              <a:t>5-2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5280" y="1052640"/>
          <a:ext cx="8353440" cy="3089160"/>
        </p:xfrm>
        <a:graphic>
          <a:graphicData uri="http://schemas.openxmlformats.org/drawingml/2006/table">
            <a:tbl>
              <a:tblPr/>
              <a:tblGrid>
                <a:gridCol w="1512720"/>
                <a:gridCol w="1584360"/>
                <a:gridCol w="1366920"/>
                <a:gridCol w="1104840"/>
                <a:gridCol w="1392480"/>
                <a:gridCol w="1392120"/>
              </a:tblGrid>
              <a:tr h="213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и интервалы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оборотов насоса, об/мин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асход воздуха, л/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X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иаметр вставок, 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(X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лина вставок,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X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са навески, кг (Х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но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95280" y="4149720"/>
          <a:ext cx="8353440" cy="244476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3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Определяемые 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установки по потоку, л/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на входе в аэратор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еред турбулизатором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ле турбулизатора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жение в воздушных магистралях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ад давления на турбулизаторе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меди в концентрате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лечение меди в концентра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8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Регрессионные модели параметров работы многозонной флотационной машины на трехфазном поток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5280" y="1916280"/>
          <a:ext cx="8353440" cy="4537080"/>
        </p:xfrm>
        <a:graphic>
          <a:graphicData uri="http://schemas.openxmlformats.org/drawingml/2006/table">
            <a:tbl>
              <a:tblPr/>
              <a:tblGrid>
                <a:gridCol w="2406600"/>
                <a:gridCol w="5946840"/>
              </a:tblGrid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34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по потоку, л/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+0,77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57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на входе в аэраторе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8+21,88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вление перед турбулизатором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5+2,75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98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ле турбулизатором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7+2,27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77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жение в воздушных магистралях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5-2,25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пад давления на турбулизаторе, 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+0,32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совая доля меди в концентрат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+0,26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2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33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влечение меди в концентрат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8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7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Влияние аэрационных и гидравлических характеристик многозонной флотационной машины на показатели флотации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772080" cy="3971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2958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1835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висимость максимального расхода воздуха от давления на входе в аэратор при работе на трехфазном потоке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Диаграмма 4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496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висимость  содержания твердого в потоке на входе в аэратор от содержания твердого в зумпфе и давления на входе в аэратор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7" name="Содержимое 3" descr=""/>
          <p:cNvPicPr/>
          <p:nvPr/>
        </p:nvPicPr>
        <p:blipFill>
          <a:blip r:embed="rId1"/>
          <a:stretch/>
        </p:blipFill>
        <p:spPr>
          <a:xfrm>
            <a:off x="324000" y="1407960"/>
            <a:ext cx="8496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8d3e"/>
                </a:solidFill>
                <a:latin typeface="Verdana"/>
              </a:rPr>
              <a:t>Преимущества реактора-сепаратора по сравнению с существующими флотомашинами для очистки сточных вод 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2920" y="1663200"/>
            <a:ext cx="8148600" cy="446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Повышение степени очистки от нефтепродуктов в среднем на 5-7% и взвешенных веществ на 8-10%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величение скорости флотации в РС не менее чем в 2 раза по сравнению с существующими напорными флотаторами (НФ). Эффект достигается за счет применения эжекторов, позволяющих повысить газосодержания в 2–3 раза (для РС – 15–25%, для НФ – 5–8%)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меньшение количества оборудования для очистки – исключение компрессора и сатуратора (емкости для насыщения воздухом) за счет применения эжекторов забирающих воздух из атмосферы, и соответственно снижения энергозатрат и металлоемкости аппаратурного оформления схемы флотационной очистки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правляемость процессом насыщения воздухом в реакторе через эжектор изменением числа работающих реакторов для поддержания оптимального соотношения потоков воды и воздуха. В НФ при снижении потока промвод образуются воздушные пробки, из-за которых нарушается режим работы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меньшение объема аппаратов для отстаивания и фильтрации в 8 раз при утилизации шламов, так как снижается выход пены  с 8-10%, который имеется у НФ,  до 1 % у РС, что является следствием обезвоживания в  зоне для отстаивания пены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С можно применять в составе закрытых очистных сооружений, так как легко организовать улавливание отработавшего воздуха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Сравнение капитальных затрат связанных с установкой флотационного оборудов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390600" y="1627200"/>
            <a:ext cx="8289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пасибо за вним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Преимущества р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еактор</a:t>
            </a: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ов -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 сепаратор</a:t>
            </a: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ов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1557000"/>
            <a:ext cx="8496000" cy="497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ая пропускная способность при малой занимаемой площад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ое качество концентра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тая настрой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бильная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альное обслужи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тота установки и ввода в эксплуатац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бкие конструкции кам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Содержимое 21" descr="Реакторы сепараторы.png"/>
          <p:cNvPicPr/>
          <p:nvPr/>
        </p:nvPicPr>
        <p:blipFill>
          <a:blip r:embed="rId1"/>
          <a:srcRect l="44250" t="1017" r="26369" b="77437"/>
          <a:stretch/>
        </p:blipFill>
        <p:spPr>
          <a:xfrm>
            <a:off x="395280" y="1557360"/>
            <a:ext cx="3876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Тенденци</a:t>
            </a: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я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удельной установочной мощности флотационных машин</a:t>
            </a: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 с увеличением объемной производительности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390600" y="1554120"/>
            <a:ext cx="84294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Тенденци</a:t>
            </a:r>
            <a:r>
              <a:rPr b="1" lang="ru-RU" sz="2200" spc="-1" strike="noStrike">
                <a:solidFill>
                  <a:srgbClr val="ff8d3e"/>
                </a:solidFill>
                <a:latin typeface="Arial"/>
              </a:rPr>
              <a:t>я</a:t>
            </a: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 удельной установочной мощности флотационных машин </a:t>
            </a:r>
            <a:r>
              <a:rPr b="1" lang="ru-RU" sz="2200" spc="-1" strike="noStrike">
                <a:solidFill>
                  <a:srgbClr val="ff8d3e"/>
                </a:solidFill>
                <a:latin typeface="Arial"/>
              </a:rPr>
              <a:t>с увеличением объема камер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Диаграмма 5" descr=""/>
          <p:cNvPicPr/>
          <p:nvPr/>
        </p:nvPicPr>
        <p:blipFill>
          <a:blip r:embed="rId1"/>
          <a:stretch/>
        </p:blipFill>
        <p:spPr>
          <a:xfrm>
            <a:off x="324000" y="1407960"/>
            <a:ext cx="8570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Возможности реакторов сепараторов по сокращению затра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4" descr=""/>
          <p:cNvPicPr/>
          <p:nvPr/>
        </p:nvPicPr>
        <p:blipFill>
          <a:blip r:embed="rId1"/>
          <a:stretch/>
        </p:blipFill>
        <p:spPr>
          <a:xfrm>
            <a:off x="390600" y="1700280"/>
            <a:ext cx="83628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абораторная установка многозонной флотационной машины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5280" y="1988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- Зумп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2-Питающая магистра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3- Воздушные магистра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4-Маномет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5-Вакууммет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6-Гидроуловит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7-Эжек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8- Флотационная ка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епара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9- Ротамет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0- Турбулизатор пот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Содержимое 12" descr="Установка-Лист2.jpg"/>
          <p:cNvPicPr/>
          <p:nvPr/>
        </p:nvPicPr>
        <p:blipFill>
          <a:blip r:embed="rId1"/>
          <a:srcRect l="0" t="4479" r="33136" b="1576"/>
          <a:stretch/>
        </p:blipFill>
        <p:spPr>
          <a:xfrm>
            <a:off x="324000" y="692280"/>
            <a:ext cx="3240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183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висимость максимального расхода воздуха от давления на входе в аэратор при работе на двухфазном потоке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3" descr=""/>
          <p:cNvPicPr/>
          <p:nvPr/>
        </p:nvPicPr>
        <p:blipFill>
          <a:blip r:embed="rId1"/>
          <a:stretch/>
        </p:blipFill>
        <p:spPr>
          <a:xfrm>
            <a:off x="390600" y="1523880"/>
            <a:ext cx="836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олный факторный эксперимент на двухфазном потоке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1052640"/>
          <a:ext cx="8353440" cy="3031920"/>
        </p:xfrm>
        <a:graphic>
          <a:graphicData uri="http://schemas.openxmlformats.org/drawingml/2006/table">
            <a:tbl>
              <a:tblPr/>
              <a:tblGrid>
                <a:gridCol w="1728720"/>
                <a:gridCol w="1612800"/>
                <a:gridCol w="1670400"/>
                <a:gridCol w="1671480"/>
                <a:gridCol w="1670040"/>
              </a:tblGrid>
              <a:tr h="213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и интервалы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оборотов зумпфанасоса, об/мин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асход воздуха, л/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X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иаметр металлических вставок, 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(X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лина металлических вставо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(X4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95280" y="4076640"/>
          <a:ext cx="8353440" cy="24084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Определяемые 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установки по потоку, л/ми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на входе в аэратор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еред турбулизатором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ле турбулизатора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жение в воздушных магистралях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ад давления на турбулизаторе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4978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8d3e"/>
                </a:solidFill>
                <a:latin typeface="Arial"/>
              </a:rPr>
              <a:t>Трехмерные диаграммы</a:t>
            </a:r>
            <a:r>
              <a:rPr b="1" lang="ru-RU" sz="23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P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ж,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300" spc="-1" strike="noStrike">
                <a:solidFill>
                  <a:srgbClr val="ff8d3e"/>
                </a:solidFill>
                <a:latin typeface="Verdana"/>
              </a:rPr>
              <a:t>работы МФМ как гидравлической системы на двухфазных потоках</a:t>
            </a: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Содержимое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392720" cy="41418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"/>
          <p:cNvPicPr/>
          <p:nvPr/>
        </p:nvPicPr>
        <p:blipFill>
          <a:blip r:embed="rId2"/>
          <a:srcRect l="0" t="3730" r="0" b="2636"/>
          <a:stretch/>
        </p:blipFill>
        <p:spPr>
          <a:xfrm>
            <a:off x="4716360" y="1700280"/>
            <a:ext cx="4032360" cy="3889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3997440" y="551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d3e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41080" y="22050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d3e"/>
                </a:solidFill>
                <a:latin typeface="Arial"/>
              </a:rPr>
              <a:t>W</a:t>
            </a:r>
            <a:r>
              <a:rPr b="1" lang="ru-RU" sz="1800" spc="-1" strike="noStrike">
                <a:solidFill>
                  <a:srgbClr val="ff8d3e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829080" y="5300640"/>
            <a:ext cx="5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d3e"/>
                </a:solidFill>
                <a:latin typeface="Arial"/>
              </a:rPr>
              <a:t>W</a:t>
            </a:r>
            <a:r>
              <a:rPr b="1" lang="ru-RU" sz="1800" spc="-1" strike="noStrike">
                <a:solidFill>
                  <a:srgbClr val="ff8d3e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7:31:28Z</dcterms:created>
  <dc:creator>Михаил</dc:creator>
  <dc:description/>
  <dc:language>en-US</dc:language>
  <cp:lastModifiedBy>qw321</cp:lastModifiedBy>
  <dcterms:modified xsi:type="dcterms:W3CDTF">2014-06-05T12:15:25Z</dcterms:modified>
  <cp:revision>181</cp:revision>
  <dc:subject/>
  <dc:title>Исследование влияния аэрационных и гидравлических характеристик многозонной флотационной машины на эффективность флотации</dc:title>
</cp:coreProperties>
</file>