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471-2782-4513-8D1F-CDB5EC08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072-7A80-4465-886F-20DF4493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AD2-A898-47D8-BA47-67A44060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451-0906-4361-9416-E0F4B3B0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ECC6-E27B-4FD2-81AE-E5B6BAB4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624-C5D0-4ED7-8FBB-1A18362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6EF8-AC38-4EC8-84B7-10A3D40D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937E-62AA-42F3-B976-A1099C5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6294-62F6-4831-99DF-0B17719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7BD5-84C0-452B-A389-8D7E999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506E-492E-44C6-B94B-A0AFFA7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5BB-2F3F-43FD-B0A2-46E0E722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B422-A770-40F1-BE01-E69490F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99F-5126-43AB-AC0D-2D7DA59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B842-6AD2-41F7-BE55-23409426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9D8D-F59A-44B7-8F71-493138E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78C-7552-4CC2-AC3F-1D472A9A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3F93-4268-4501-A28F-52AFAB96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87F0-0E84-4E0F-B31C-86BE6B3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575C-CBB2-4A8D-8F1C-7774CCB3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6527-2417-45BE-B9A9-A4D6AE7C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5836-6237-4E01-82FD-06455ACC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1FC-CA28-41AC-B3C9-EA93B569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B606-384A-4DCC-8430-2835E0B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3546-6230-4D5D-A902-DF3E8770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2429-E0BD-4E7A-8310-8269A44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308A-BDD0-4DA1-B714-B20C4FC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E171-9CFF-4C85-815B-7B367DC1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AD1A-86AF-4734-8046-8E77F633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7001-9C1F-4735-9921-66B6E722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B3E3-67AD-4279-B284-D576CAA2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8FFF-D70E-4B09-A52A-64897191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FD2F-08F8-4AAF-A92F-B1B7A896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5F4-CCD3-45E5-B7B1-0F9B48F1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7F65-2FB5-4C7F-8E8B-41B5EA0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708F-D447-4BA1-8EBE-82783F38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B3A1-968B-49BA-AD95-89A8F679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CD46-5022-43F6-B928-7E76731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37B0-773A-4A23-9516-F95B0CD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09AE-15FF-4E27-B2BA-308F3D5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45BD-89DE-4B8F-9FB4-751C522E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2696-7D7A-4911-B6E9-FC29A1CF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5A2A-F5B6-4751-9363-D0176597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29B5-ED87-4796-B381-5F690CDB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A45-0442-4B4A-891F-17A57D4F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8C90-8D62-4783-8A30-9A621781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82F1-C7E2-4890-B69D-1D0F088A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4DF4-AE9C-4E42-B6CB-18B40CB1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99F2-6881-4093-8B2B-5AD2CB5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659D-F871-4A46-A421-837F78D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CDAD-6A66-49BB-9159-7F55E84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DB9B-2E45-4072-B959-6F109C8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5204-294C-475B-B726-FB44423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045F-C314-46AD-921C-DF7C0DA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498F-F73A-40B6-A788-AD48676B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0C5-C961-434F-8D39-9CA3845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5F91-01B0-4F17-B404-05994859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9F5-DFDF-41C3-BE4D-FDBDDBD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DE4-0E52-4B0F-80FD-3F0EFE5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C61-DD5E-4BD3-AD00-FD89CAD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D75-E4AC-4B0F-A986-9510A0A46C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A36-F762-4A98-B9AF-08419CE119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D61E-1FFD-4096-8854-B59169A23EB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F82-96C5-4E04-8F2E-B4D96D0A2E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014-2847-4805-827D-20A1471C2F3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Реактор-сепаратора для флотационной очистки сточных вод предприятий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00000" y="4581000"/>
            <a:ext cx="784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проф., д.т.н. Самыгин В.Д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b2b2b"/>
                </a:solidFill>
                <a:latin typeface="Verdana"/>
              </a:rPr>
              <a:t>директор Центра РТПМС Абрютин Д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Условия проведения дробного факторного эксперимента на трехфазном потоке по матрице 2</a:t>
            </a:r>
            <a:r>
              <a:rPr b="1" lang="ru-RU" sz="2000" spc="-1" strike="noStrike" baseline="30000">
                <a:solidFill>
                  <a:srgbClr val="ff8d3e"/>
                </a:solidFill>
                <a:latin typeface="Verdana"/>
              </a:rPr>
              <a:t>5-2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5280" y="1052640"/>
          <a:ext cx="8353440" cy="3089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1366920"/>
                <a:gridCol w="1104840"/>
                <a:gridCol w="1392480"/>
                <a:gridCol w="139212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вставок,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а навески, кг (Х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95280" y="4149720"/>
          <a:ext cx="8353440" cy="24447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ди в концентрате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лечение меди в концентра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8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егрессионные модели параметров работы многозонной флотационной машины на трехфазном поток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1916280"/>
          <a:ext cx="8353440" cy="4537080"/>
        </p:xfrm>
        <a:graphic>
          <a:graphicData uri="http://schemas.openxmlformats.org/drawingml/2006/table">
            <a:tbl>
              <a:tblPr/>
              <a:tblGrid>
                <a:gridCol w="2406600"/>
                <a:gridCol w="5946840"/>
              </a:tblGrid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34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по потоку, л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е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8+21,8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вление перед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5+2,7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98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ом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7+2,2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77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-2,25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епад давления на турбулизаторе,  к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+0,3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совая доля меди в концентрат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+0,26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2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3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влечение меди в концентрат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7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лияние аэрационных и гидравлических характеристик многозонной флотационной машины на показатели флотаци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772080" cy="397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295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835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тре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Диаграмма 4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496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висимость  содержания твердого в потоке на входе в аэратор от содержания твердого в зумпфе и давления на входе в аэратор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Содержимое 3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496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8d3e"/>
                </a:solidFill>
                <a:latin typeface="Verdana"/>
              </a:rPr>
              <a:t>Преимущества реактора-сепаратора по сравнению с существующими флотомашинами для очистки сточных вод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2920" y="1663200"/>
            <a:ext cx="8148600" cy="446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овышение степени очистки от нефтепродуктов в среднем на 5-7% и взвешенных веществ на 8-10%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величение скорости флотации в РС не менее чем в 2 раза по сравнению с существующими напорными флотаторами (НФ). Эффект достигается за счет применения эжекторов, позволяющих повысить газосодержания в 2–3 раза (для РС – 15–25%, для НФ – 5–8%)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количества оборудования для очистки – исключение компрессора и сатуратора (емкости для насыщения воздухом) за счет применения эжекторов забирающих воздух из атмосферы, и соответственно снижения энергозатрат и металлоемкости аппаратурного оформления схемы флотационной очистк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правляемость процессом насыщения воздухом в реакторе через эжектор изменением числа работающих реакторов для поддержания оптимального соотношения потоков воды и воздуха. В НФ при снижении потока промвод образуются воздушные пробки, из-за которых нарушается режим рабо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меньшение объема аппаратов для отстаивания и фильтрации в 8 раз при утилизации шламов, так как снижается выход пены  с 8-10%, который имеется у НФ,  до 1 % у РС, что является следствием обезвоживания в  зоне для отстаивания пены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С можно применять в составе закрытых очистных сооружений, так как легко организовать улавливание отработавшего воздуха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Сравнение капитальных затрат связанных с установкой флотационного оборудов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627200"/>
            <a:ext cx="8289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Преимущества р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еак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 -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сепаратор</a:t>
            </a: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557000"/>
            <a:ext cx="8496000" cy="497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пропускная способность при малой занимаемой площа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ое качество концентр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ая настрой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бильная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альное обслужи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ота установки и ввода в эксплуат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32360" indent="-181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бкие конструкции ка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Содержимое 21" descr="Реакторы сепараторы.png"/>
          <p:cNvPicPr/>
          <p:nvPr/>
        </p:nvPicPr>
        <p:blipFill>
          <a:blip r:embed="rId1"/>
          <a:srcRect l="44250" t="1017" r="26369" b="77437"/>
          <a:stretch/>
        </p:blipFill>
        <p:spPr>
          <a:xfrm>
            <a:off x="395280" y="1557360"/>
            <a:ext cx="3876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с увеличением объемной производительност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54120"/>
            <a:ext cx="84294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Тенденци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 удельной установочной мощности флотационных машин </a:t>
            </a:r>
            <a:r>
              <a:rPr b="1" lang="ru-RU" sz="2200" spc="-1" strike="noStrike">
                <a:solidFill>
                  <a:srgbClr val="ff8d3e"/>
                </a:solidFill>
                <a:latin typeface="Arial"/>
              </a:rPr>
              <a:t>с увеличением объема камер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Диаграмма 5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570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озможности реакторов сепараторов по сокращению затра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4" descr=""/>
          <p:cNvPicPr/>
          <p:nvPr/>
        </p:nvPicPr>
        <p:blipFill>
          <a:blip r:embed="rId1"/>
          <a:stretch/>
        </p:blipFill>
        <p:spPr>
          <a:xfrm>
            <a:off x="390600" y="1700280"/>
            <a:ext cx="83628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абораторная установка многозонной флотационной машины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1988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- Зумп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-Питающая магистра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- Воздушные магистра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-Маномет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5-Вакуум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6-Гидроуловит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7-Эж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8- Флотационная к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епара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9- Ротаме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0- Турбулизатор п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3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2" descr="Установка-Лист2.jpg"/>
          <p:cNvPicPr/>
          <p:nvPr/>
        </p:nvPicPr>
        <p:blipFill>
          <a:blip r:embed="rId1"/>
          <a:srcRect l="0" t="4479" r="33136" b="1576"/>
          <a:stretch/>
        </p:blipFill>
        <p:spPr>
          <a:xfrm>
            <a:off x="324000" y="692280"/>
            <a:ext cx="3240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висимость максимального расхода воздуха от давления на входе в аэратор при работе на двухфазном поток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36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лный факторный эксперимент на двухфазном поток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052640"/>
          <a:ext cx="8353440" cy="3031920"/>
        </p:xfrm>
        <a:graphic>
          <a:graphicData uri="http://schemas.openxmlformats.org/drawingml/2006/table">
            <a:tbl>
              <a:tblPr/>
              <a:tblGrid>
                <a:gridCol w="1728720"/>
                <a:gridCol w="1612800"/>
                <a:gridCol w="1670400"/>
                <a:gridCol w="1671480"/>
                <a:gridCol w="167004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и интервалы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оборотов зумпфанасоса, об/мин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асход воздуха, л/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X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иаметр металлических вставок, 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лина металлических вставо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(X4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варьирова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95280" y="4076640"/>
          <a:ext cx="8353440" cy="24084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Определяемые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установки по потоку, л/ми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на входе в аэратор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еред турбулизатором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ле турбулизатора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яжение в воздушных магистралях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ад давления на турбулизаторе, кП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Y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978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8d3e"/>
                </a:solidFill>
                <a:latin typeface="Arial"/>
              </a:rPr>
              <a:t>Трехмерные диаграммы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,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300" spc="-1" strike="noStrike">
                <a:solidFill>
                  <a:srgbClr val="ff8d3e"/>
                </a:solidFill>
                <a:latin typeface="Verdana"/>
              </a:rPr>
              <a:t>работы МФМ как гидравлической системы на двухфазных потоках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392720" cy="4141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rcRect l="0" t="3730" r="0" b="2636"/>
          <a:stretch/>
        </p:blipFill>
        <p:spPr>
          <a:xfrm>
            <a:off x="4716360" y="1700280"/>
            <a:ext cx="4032360" cy="3889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399744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41080" y="22050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829080" y="5300640"/>
            <a:ext cx="5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d3e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7:31:28Z</dcterms:created>
  <dc:creator>Михаил</dc:creator>
  <dc:description/>
  <dc:language>en-US</dc:language>
  <cp:lastModifiedBy>qw321</cp:lastModifiedBy>
  <dcterms:modified xsi:type="dcterms:W3CDTF">2014-06-05T12:15:25Z</dcterms:modified>
  <cp:revision>181</cp:revision>
  <dc:subject/>
  <dc:title>Исследование влияния аэрационных и гидравлических характеристик многозонной флотационной машины на эффективность флотации</dc:title>
</cp:coreProperties>
</file>