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059-8D6F-4135-9008-C5880912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20B-8229-43A6-A620-3D8DEA30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E27-14F9-4CA9-A807-91FB57BA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D69-D9DC-442E-BBE3-9EA8EDA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404-BD5A-4FFF-8E0A-E5FDB3A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7BBA-5875-4A9C-BBA3-3C64CDF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35C3-876F-403D-A3EA-CF960AB2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FD5-3C5D-438B-A8F4-CB79143C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89A9-1024-4904-9AC0-58902A8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D219-70EF-493C-907F-8ED1101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E0EB-8A98-41A7-A0BF-EFA2899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B92-44A3-421E-BA93-5EB0664A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6270-B503-47D6-8B43-3CDC6C1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54D2-362B-447C-A931-09EFA1C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C6B9-B21F-495F-8819-07DE037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4F1E-2124-4E96-AFDD-CE402A3D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961C-BB51-475D-B0B0-CFCD5DDA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6E46-6D06-4EC8-ABAC-393BF16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CFC7-F9FA-4FD6-B861-9B087CF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0B4A-EBC5-48A1-A6DA-C15802AC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BD3B-88BF-4473-8CDD-CFEF65EF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0138-7231-42B4-832B-693D59C9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186-0BB1-4C2B-A05B-9045EEE7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BBF0-AD8E-4412-B3FC-5CC84674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82AF-5B18-4AA8-A13E-F4C2180C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D075-DB1C-4DD2-B44D-7DCE557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9A63-AC59-41D3-B957-9F6F9F1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221C-5DD1-48C7-96F3-186A180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5D9E-DBA8-4AE3-9836-6B3C6601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770A-66F6-4E37-A283-5F6B5F15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ECCA9-F8F0-4B52-8530-A9E3F3AB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6C45-582F-4141-AA70-C70A17B4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DFC0-C194-4D0A-8DDB-E167EF7B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463-B850-442E-A283-871CCCFF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0A55-6EBE-4135-96AF-A7A7EFF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70F4-6463-4535-BECC-E1EE54D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75E8-892B-4C0E-B457-46C1071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2414-D948-4234-BEEE-A460700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676C2-4442-4E45-9291-AC39346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300A-7A52-422A-9E47-1C4DA4F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24AD-6260-457A-A009-9D386311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AAB2-C507-4102-B4AE-A828C0A5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488B-DCC2-4B21-A78D-DD6F1666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3E22-342E-421C-BDD2-735A651F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CC1-1BAC-4E96-A84D-0A9CFF61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1C10-A338-4CCA-8287-FCFDDF63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6791-CE15-4588-83F3-94F8BCF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76D2-4B88-4193-8066-C403DFA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3DF3-C87C-409A-9685-A8B39B0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578E-CF40-40C8-BBF5-6B56089C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CD572-0786-4653-930E-DAEE1CD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9CE6B-CA75-4A02-8F19-C0F1198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C6F7-CD4E-44E9-A87D-1B9AFF6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59E0-7624-45BF-848C-DC7C339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AC8A-E360-4E34-8407-2082CB8B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ED6-FCC3-4746-B58B-6712CEC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5F59-902B-44E1-8AC9-DA526C41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504-EE82-4C1F-B814-6437CA3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3F0-2212-449F-A879-21E3AFC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083-548C-49CD-87C7-BC779D7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966B-3707-4D3E-BA57-E1864B61B0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884-88B0-435D-B7E4-9AD3C2B22A0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C7DF-32DD-410D-911B-4709571EF1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235-BD57-4ECC-AB6B-41543BEE1B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CD72-E228-44D7-ACBB-9DB87782D11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Реактор-сепаратора для флотационной очистки сточных вод предприятий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00000" y="4581000"/>
            <a:ext cx="784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b2b2b"/>
                </a:solidFill>
                <a:latin typeface="Verdana"/>
              </a:rPr>
              <a:t>проф., д.т.н. Самыгин В.Д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b2b2b"/>
                </a:solidFill>
                <a:latin typeface="Verdana"/>
              </a:rPr>
              <a:t>директор Центра РТПМС Абрютин Д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Условия проведения дробного факторного эксперимента на трехфазном потоке по матрице 2</a:t>
            </a:r>
            <a:r>
              <a:rPr b="1" lang="ru-RU" sz="2000" spc="-1" strike="noStrike" baseline="30000">
                <a:solidFill>
                  <a:srgbClr val="ff8d3e"/>
                </a:solidFill>
                <a:latin typeface="Verdana"/>
              </a:rPr>
              <a:t>5-2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5280" y="1052640"/>
          <a:ext cx="8353440" cy="3089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1366920"/>
                <a:gridCol w="1104840"/>
                <a:gridCol w="1392480"/>
                <a:gridCol w="139212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и интервалы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оборотов насоса, об/мин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асход воздуха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иаметр вставок, 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лина вставок,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са навески, кг (Х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о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95280" y="4149720"/>
          <a:ext cx="8353440" cy="24447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Определяемые 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установки по потоку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еред турбулизатором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а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ад давления на турбулизаторе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еди в концентрате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лечение меди в концентра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8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егрессионные модели параметров работы многозонной флотационной машины на трехфазном поток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1916280"/>
          <a:ext cx="8353440" cy="4537080"/>
        </p:xfrm>
        <a:graphic>
          <a:graphicData uri="http://schemas.openxmlformats.org/drawingml/2006/table">
            <a:tbl>
              <a:tblPr/>
              <a:tblGrid>
                <a:gridCol w="2406600"/>
                <a:gridCol w="5946840"/>
              </a:tblGrid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34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по потоку, л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+0,7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е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8+21,88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вление перед турбулизатором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5+2,75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98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ом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7+2,2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7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-2,25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пад давления на турбулизаторе, 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+0,3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совая доля меди в концентрат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+0,26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33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влечение меди в концентрат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7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Влияние аэрационных и гидравлических характеристик многозонной флотационной машины на показатели флотаци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772080" cy="397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295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835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висимость максимального расхода воздуха от давления на входе в аэратор при работе на трехфазном поток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Диаграмма 4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496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висимость  содержания твердого в потоке на входе в аэратор от содержания твердого в зумпфе и давления на входе в аэратор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Содержимое 3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496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8d3e"/>
                </a:solidFill>
                <a:latin typeface="Verdana"/>
              </a:rPr>
              <a:t>Преимущества реактора-сепаратора по сравнению с существующими флотомашинами для очистки сточных вод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2920" y="1663200"/>
            <a:ext cx="8148600" cy="446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вышение степени очистки от нефтепродуктов в среднем на 5-7% и взвешенных веществ на 8-10%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величение скорости флотации в РС не менее чем в 2 раза по сравнению с существующими напорными флотаторами (НФ). Эффект достигается за счет применения эжекторов, позволяющих повысить газосодержания в 2–3 раза (для РС – 15–25%, для НФ – 5–8%)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меньшение количества оборудования для очистки – исключение компрессора и сатуратора (емкости для насыщения воздухом) за счет применения эжекторов забирающих воздух из атмосферы, и соответственно снижения энергозатрат и металлоемкости аппаратурного оформления схемы флотационной очистк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правляемость процессом насыщения воздухом в реакторе через эжектор изменением числа работающих реакторов для поддержания оптимального соотношения потоков воды и воздуха. В НФ при снижении потока промвод образуются воздушные пробки, из-за которых нарушается режим работы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меньшение объема аппаратов для отстаивания и фильтрации в 8 раз при утилизации шламов, так как снижается выход пены  с 8-10%, который имеется у НФ,  до 1 % у РС, что является следствием обезвоживания в  зоне для отстаивания пены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С можно применять в составе закрытых очистных сооружений, так как легко организовать улавливание отработавшего воздуха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Сравнение капитальных затрат связанных с установкой флотационного оборудов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390600" y="1627200"/>
            <a:ext cx="8289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Преимущества р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еактор</a:t>
            </a: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в -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сепаратор</a:t>
            </a: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557000"/>
            <a:ext cx="8496000" cy="497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пропускная способность при малой занимаемой площа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ое качество концентр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ая настрой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бильная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альное обслужи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ота установки и ввода в эксплуатац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бкие конструкции кам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Содержимое 21" descr="Реакторы сепараторы.png"/>
          <p:cNvPicPr/>
          <p:nvPr/>
        </p:nvPicPr>
        <p:blipFill>
          <a:blip r:embed="rId1"/>
          <a:srcRect l="44250" t="1017" r="26369" b="77437"/>
          <a:stretch/>
        </p:blipFill>
        <p:spPr>
          <a:xfrm>
            <a:off x="395280" y="1557360"/>
            <a:ext cx="3876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Тенденци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удельной установочной мощности флотационных машин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с увеличением объемной производительности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54120"/>
            <a:ext cx="84294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Тенденци</a:t>
            </a:r>
            <a:r>
              <a:rPr b="1" lang="ru-RU" sz="22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 удельной установочной мощности флотационных машин </a:t>
            </a:r>
            <a:r>
              <a:rPr b="1" lang="ru-RU" sz="2200" spc="-1" strike="noStrike">
                <a:solidFill>
                  <a:srgbClr val="ff8d3e"/>
                </a:solidFill>
                <a:latin typeface="Arial"/>
              </a:rPr>
              <a:t>с увеличением объема камер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Диаграмма 5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570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Возможности реакторов сепараторов по сокращению затра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4" descr=""/>
          <p:cNvPicPr/>
          <p:nvPr/>
        </p:nvPicPr>
        <p:blipFill>
          <a:blip r:embed="rId1"/>
          <a:stretch/>
        </p:blipFill>
        <p:spPr>
          <a:xfrm>
            <a:off x="390600" y="1700280"/>
            <a:ext cx="83628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абораторная установка многозонной флотационной машины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1988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- Зумп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-Питающая магистра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- Воздушные магистра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-Маномет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5-Вакуум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6-Гидроуловит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7-Эжек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8- Флотационная к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епара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9- Рота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0- Турбулизатор п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Содержимое 12" descr="Установка-Лист2.jpg"/>
          <p:cNvPicPr/>
          <p:nvPr/>
        </p:nvPicPr>
        <p:blipFill>
          <a:blip r:embed="rId1"/>
          <a:srcRect l="0" t="4479" r="33136" b="1576"/>
          <a:stretch/>
        </p:blipFill>
        <p:spPr>
          <a:xfrm>
            <a:off x="324000" y="692280"/>
            <a:ext cx="3240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1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висимость максимального расхода воздуха от давления на входе в аэратор при работе на двухфазном поток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36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лный факторный эксперимент на двухфазном поток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052640"/>
          <a:ext cx="8353440" cy="3031920"/>
        </p:xfrm>
        <a:graphic>
          <a:graphicData uri="http://schemas.openxmlformats.org/drawingml/2006/table">
            <a:tbl>
              <a:tblPr/>
              <a:tblGrid>
                <a:gridCol w="1728720"/>
                <a:gridCol w="1612800"/>
                <a:gridCol w="1670400"/>
                <a:gridCol w="1671480"/>
                <a:gridCol w="167004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и интервалы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оборотов зумпфанасоса, об/мин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асход воздуха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иаметр металлических вставок, 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лина металлических вставо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4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95280" y="4076640"/>
          <a:ext cx="8353440" cy="24084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Определяемые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установки по потоку, л/ми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еред турбулизатором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а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ад давления на турбулизаторе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4978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8d3e"/>
                </a:solidFill>
                <a:latin typeface="Arial"/>
              </a:rPr>
              <a:t>Трехмерные диаграммы</a:t>
            </a:r>
            <a:r>
              <a:rPr b="1" lang="ru-RU" sz="23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,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300" spc="-1" strike="noStrike">
                <a:solidFill>
                  <a:srgbClr val="ff8d3e"/>
                </a:solidFill>
                <a:latin typeface="Verdana"/>
              </a:rPr>
              <a:t>работы МФМ как гидравлической системы на двухфазных потоках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Содержимое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392720" cy="41418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2"/>
          <a:srcRect l="0" t="3730" r="0" b="2636"/>
          <a:stretch/>
        </p:blipFill>
        <p:spPr>
          <a:xfrm>
            <a:off x="4716360" y="1700280"/>
            <a:ext cx="4032360" cy="3889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399744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41080" y="22050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829080" y="5300640"/>
            <a:ext cx="5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7:31:28Z</dcterms:created>
  <dc:creator>Михаил</dc:creator>
  <dc:description/>
  <dc:language>en-US</dc:language>
  <cp:lastModifiedBy>qw321</cp:lastModifiedBy>
  <dcterms:modified xsi:type="dcterms:W3CDTF">2014-06-05T12:15:25Z</dcterms:modified>
  <cp:revision>181</cp:revision>
  <dc:subject/>
  <dc:title>Исследование влияния аэрационных и гидравлических характеристик многозонной флотационной машины на эффективность флотации</dc:title>
</cp:coreProperties>
</file>